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78880"/>
        <c:axId val="48591014"/>
      </c:barChart>
      <c:catAx>
        <c:axId val="41878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91014"/>
        <c:crosses val="autoZero"/>
        <c:auto val="1"/>
        <c:lblAlgn val="ctr"/>
        <c:lblOffset val="100"/>
        <c:noMultiLvlLbl val="0"/>
      </c:catAx>
      <c:valAx>
        <c:axId val="48591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78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6C6-AADE-43A4-82D0-90865F3F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8B1-99AE-48AF-9333-D08271AA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48E-6899-466E-9345-A4EF773B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419-90AB-49F3-94A5-8A6EBC3F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154-9F44-41E0-8AD2-94CF1F1A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D2C-328B-4689-B6C2-B35AFF71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C20-6A3F-4E67-B83C-DFBED521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014-249C-4012-AEF4-0BCBF7EC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748-2ADC-48B1-88C6-5C19D6EB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DC9-C0DB-4EB0-A737-4BC6A969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66B-FA4A-4CA6-A77E-965B1BE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EF3-06E6-4454-B39E-E6A5DB45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052BB-1E51-4AAC-B319-5D927CBAFB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