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358657"/>
        <c:axId val="94076388"/>
      </c:barChart>
      <c:catAx>
        <c:axId val="563586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076388"/>
        <c:crosses val="autoZero"/>
        <c:auto val="1"/>
        <c:lblAlgn val="ctr"/>
        <c:lblOffset val="100"/>
        <c:noMultiLvlLbl val="0"/>
      </c:catAx>
      <c:valAx>
        <c:axId val="940763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3586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1FBC-D3B8-4C15-89C6-594403293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9607-46A9-441D-B6AB-5FA35F57D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C158-43AF-4F40-ACED-27A252F48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CA01-EE50-42DC-8BD4-07E7D8B75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386C-871C-4764-95C2-54CF8FAA8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39B5-8078-4797-93A2-D2B2F8C80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62FC-3CEC-4D3A-B2AF-253AD05B7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64A5-973B-411C-BF96-FB9B40523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099C-0BC2-4873-AA71-2C2AFF6D8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880F-8DF9-4F37-A0B6-D7951C13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472E-86D3-4B06-8990-1323B3EE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46C0-3FFB-4572-955E-5A3C15CF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F3974F-C017-44BB-9970-BB79975CA3B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