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87592"/>
        <c:axId val="92144745"/>
      </c:barChart>
      <c:catAx>
        <c:axId val="90087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44745"/>
        <c:crosses val="autoZero"/>
        <c:auto val="1"/>
        <c:lblAlgn val="ctr"/>
        <c:lblOffset val="100"/>
        <c:noMultiLvlLbl val="0"/>
      </c:catAx>
      <c:valAx>
        <c:axId val="92144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87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A29-8FA9-4800-97B5-65628C72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BEE-E561-446F-AE51-B265B47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2E1-2C5D-4F17-BCB3-8025B64B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B67-0D23-459E-A141-52D8284B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9A0-B5BF-423F-B18B-21CD35AE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940-AEF2-4936-9228-C8742CF2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DC2-8ADA-4F57-865A-CE6C81EC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7E0-F86A-43E0-9177-3BCB2654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916-7244-415E-AC47-A8FBC185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728-B99C-4EB2-81D9-72D2EABE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3D0-DB9C-4A28-9561-A28A52D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020-62B1-4D27-9CC3-C49B5139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9A026-CF57-4CC9-A2C4-9F0BE5D355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