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949684"/>
        <c:axId val="95980646"/>
      </c:barChart>
      <c:catAx>
        <c:axId val="62949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80646"/>
        <c:crosses val="autoZero"/>
        <c:auto val="1"/>
        <c:lblAlgn val="ctr"/>
        <c:lblOffset val="100"/>
        <c:noMultiLvlLbl val="0"/>
      </c:catAx>
      <c:valAx>
        <c:axId val="95980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49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5E4-47FE-4900-A8A4-059A1250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165-F5FD-4DF1-A138-BB86F4A0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609-728D-44A5-ABFB-59034AE9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6293-2BB5-4932-BF6A-50569385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033B-9073-4605-8BDC-632AF042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C7C-F343-4F06-A340-FC9D276A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6E1F-1F61-450D-A120-10F9A604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366E-AC57-4085-B4CC-F8F45616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03EF-652D-4B10-9A86-DA05582E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506-C203-4EC7-83F1-78762589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9DA-6B96-4461-8C5D-097AAA7E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B50-3E4C-43F4-9E4C-1ED08745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566FF-8B70-43E4-8553-5D14102CE6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