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21981"/>
        <c:axId val="13267939"/>
      </c:barChart>
      <c:catAx>
        <c:axId val="30921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67939"/>
        <c:crosses val="autoZero"/>
        <c:auto val="1"/>
        <c:lblAlgn val="ctr"/>
        <c:lblOffset val="100"/>
        <c:noMultiLvlLbl val="0"/>
      </c:catAx>
      <c:valAx>
        <c:axId val="13267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21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E17-66DE-4D03-B1B4-7F9E384E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2A05-A3A0-449B-B6B0-AFBABF60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5796-E1F5-4815-B684-82DF9A5A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035-6CB2-40EA-9930-AB1B821A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9EDF-05D5-48CF-B7EA-358D390C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553-415A-4449-BBE8-16E7F3A5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73BD-2D9E-46A8-96E3-A8EE9E29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029-9483-4AEA-BFD8-7C8C38B8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2A68-9971-4693-81B8-8070E1D8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15F8-5842-463B-80FC-8A7185DF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126-6A84-449E-87B5-868F45A3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94E-AF97-4A5E-BAD2-C122A6DA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453BB-34B3-4DB2-80FA-EEDCB30AF5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