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09346"/>
        <c:axId val="35948834"/>
      </c:barChart>
      <c:catAx>
        <c:axId val="35209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8834"/>
        <c:crosses val="autoZero"/>
        <c:auto val="1"/>
        <c:lblAlgn val="ctr"/>
        <c:lblOffset val="100"/>
        <c:noMultiLvlLbl val="0"/>
      </c:catAx>
      <c:valAx>
        <c:axId val="35948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9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6A7-5527-4E55-B4A7-8E0B821E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912-AD90-48DF-8E6A-0C92E07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B76-37D7-452E-9B9A-D702412D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2F3-1FE3-4D5C-8ECA-598D0290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9C1-546F-4483-9A9B-37BE5BE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4A6-7476-4DD1-90FC-3D1CF40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E86-C73D-4C83-8285-CD671ED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1D3-E52E-4CB2-9873-0D17024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8F9-46B6-4F5A-A95E-638D7F4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E5C-1993-46FC-92BA-6BD0F3C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FF8-6B8D-42D9-AD66-14A9468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7B0-559E-4BBD-ACE7-D1AEB93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EFE4A-B195-4EC7-A557-44C02D7175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