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98928"/>
        <c:axId val="71892237"/>
      </c:barChart>
      <c:catAx>
        <c:axId val="1649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92237"/>
        <c:crosses val="autoZero"/>
        <c:auto val="1"/>
        <c:lblAlgn val="ctr"/>
        <c:lblOffset val="100"/>
        <c:noMultiLvlLbl val="0"/>
      </c:catAx>
      <c:valAx>
        <c:axId val="71892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9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EB2-7B43-4D04-A2E2-F2BB4284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50C-F443-44F1-BAEE-B982FDF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298-3992-446C-913C-E330822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D51-A42F-4562-A185-362DD5F2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F40-EF6C-41DB-9742-1DA7DB1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59F-6B77-47D7-A818-1F2C07D3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3D4-4A15-4425-A363-03DDD0B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BED-BF64-4243-A246-D293060C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6BB-729B-4AFA-B065-A92D7CA1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889-5AC8-4C25-818E-5AF8264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D11-80A0-401A-AA0B-30FBAE0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FBB-C228-489C-B599-21E8EDB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A3AC-190A-4A54-BE63-73AEC066AD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