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6636"/>
        <c:axId val="41885647"/>
      </c:barChart>
      <c:catAx>
        <c:axId val="9746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85647"/>
        <c:crosses val="autoZero"/>
        <c:auto val="1"/>
        <c:lblAlgn val="ctr"/>
        <c:lblOffset val="100"/>
        <c:noMultiLvlLbl val="0"/>
      </c:catAx>
      <c:valAx>
        <c:axId val="41885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6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88DB-E139-43D5-BE43-321AF6B8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0EE-BE7F-4E05-9ED4-9A64CC4A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79A-3787-4D38-AC65-6FE1F229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100-B368-4DEA-9A40-77027870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E3E-AD6E-4EDE-A36C-C52A4CB2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7D3-C0EE-49E6-A3FE-6D26E511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E8E-1E07-431F-8EBA-5D701BDC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40C-0010-4AA8-ADED-2A263BC1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6BFC-32D1-4194-BC18-D086173D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D19-77F3-4EB9-A4D4-0ED9405C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F68-3219-49A9-8ECC-9D5C91A4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69D-3AD6-448E-AB80-160E71C0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ABB32-9910-4915-B338-957ADED617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