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98242"/>
        <c:axId val="69736219"/>
      </c:barChart>
      <c:catAx>
        <c:axId val="29798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36219"/>
        <c:crosses val="autoZero"/>
        <c:auto val="1"/>
        <c:lblAlgn val="ctr"/>
        <c:lblOffset val="100"/>
        <c:noMultiLvlLbl val="0"/>
      </c:catAx>
      <c:valAx>
        <c:axId val="69736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98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FE2-6F38-4740-B3A8-BB5E44BF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1B2-18EA-42C8-B2A7-C7DF928F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0AC-C90D-4D3B-9C4C-165ED2AE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98A-307A-4554-9B65-5F5E8A07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DAB-6C6C-4F68-9E04-5F4C37CF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925-6E6D-48CC-976A-7D636D4F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BAA-038B-4A9C-B809-2FCA4CF9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F4D-1CEC-410F-969A-2F854134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68F-C17B-4B21-9439-7428D438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C1B-D97A-42D7-BECF-51F4C39D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4BA-317B-4FF0-B524-2385F252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AF4-D310-4068-A549-6029405B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D6809-9358-4CE2-9C01-5FF328BE1E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