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085335"/>
        <c:axId val="15749545"/>
      </c:barChart>
      <c:catAx>
        <c:axId val="230853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749545"/>
        <c:crosses val="autoZero"/>
        <c:auto val="1"/>
        <c:lblAlgn val="ctr"/>
        <c:lblOffset val="100"/>
        <c:noMultiLvlLbl val="0"/>
      </c:catAx>
      <c:valAx>
        <c:axId val="157495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0853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2675-6D34-454F-A8F7-5824AA803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A40F-F762-40B1-B0FC-DF4E95DD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A8F5-87D0-4FB5-82A3-3AFB7A932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B69C-E5B1-4474-9BF2-140D2A59C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F7F2-533C-4D14-A9A6-D5D296AB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3269-2E8B-409C-B565-7C9994AD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1C2E-EBD1-4424-9195-4A8A75C3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4B85-A871-433B-94DA-E9441D29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BDCD-021E-4616-AC36-EE5417BF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45F4-3EDF-4B08-967E-CB31D2DA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6B96-557B-467D-AF66-C6649915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E4CB-EED0-4388-8B32-0A08511F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49A65-D670-4BE4-BF3D-EB76FE6A5C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