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987273"/>
        <c:axId val="20618908"/>
      </c:barChart>
      <c:catAx>
        <c:axId val="899872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18908"/>
        <c:crosses val="autoZero"/>
        <c:auto val="1"/>
        <c:lblAlgn val="ctr"/>
        <c:lblOffset val="100"/>
        <c:noMultiLvlLbl val="0"/>
      </c:catAx>
      <c:valAx>
        <c:axId val="206189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872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C6BF-5C8F-4628-9097-D5D92081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4808-0CB7-4D60-966A-928985E2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A956-D05B-4757-AA27-9DF3794C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0D8C-4D54-4C66-87B7-92BE4029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AF5F-CFE3-41BF-AE4B-935C7BF4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0617-7E62-462C-8BA4-D900E3CD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FCDE-BCB1-49D9-9B34-18695517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38E3-329F-4DF5-A8B7-68FDD409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C05E-4844-45C8-8183-262875B6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D568-84CA-4DCD-BC5D-1EF428E1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B3AD-C7E2-403C-891B-BFB7CCDA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3BE4-FDFA-49AE-A9CB-72887925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22980-910B-4D7F-B285-0B725A50F4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