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9297"/>
        <c:axId val="19887487"/>
      </c:barChart>
      <c:catAx>
        <c:axId val="7859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87487"/>
        <c:crosses val="autoZero"/>
        <c:auto val="1"/>
        <c:lblAlgn val="ctr"/>
        <c:lblOffset val="100"/>
        <c:noMultiLvlLbl val="0"/>
      </c:catAx>
      <c:valAx>
        <c:axId val="19887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9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BE6-7625-425E-94CC-FCF9DECD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1CB-7FAC-4635-B940-34298E4C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BBF-B5C7-4FB8-88C7-AB413F08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433-C4B3-4D7E-9656-20EBCD5C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ABB-6E1C-46E2-9242-DD84243E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B65-46D4-479B-BB10-D2C4260C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113-D478-4C36-B529-6F1ADCFE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3E3-F754-489F-8AD1-0D8A93D9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9C9-1E72-40E7-B247-8C18AF7B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125-119C-42AD-B23C-556AC29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F17-C711-44D4-8E83-BDFA1054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879-9C5B-471F-B15E-3CFD86D0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B4FF1-1B0B-49DD-A4AE-FAC61AED52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