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68582"/>
        <c:axId val="11109848"/>
      </c:barChart>
      <c:catAx>
        <c:axId val="56668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09848"/>
        <c:crosses val="autoZero"/>
        <c:auto val="1"/>
        <c:lblAlgn val="ctr"/>
        <c:lblOffset val="100"/>
        <c:noMultiLvlLbl val="0"/>
      </c:catAx>
      <c:valAx>
        <c:axId val="11109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68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3BB-F996-40C5-903C-677E6380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BE8-3EA0-4891-A61B-494BABE9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B1A-1ABE-4092-AF78-9CCFC320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B18-9917-4B65-B950-65236F2B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84D-B031-4127-86E6-8C8B3C28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ACA-B45F-43E6-8EC1-EC8C54F3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117-F307-4B0C-8F50-A83B5D46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0A5-B58D-4910-8EB9-1836DB0D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B2B-4C0F-497C-83E6-6A83D607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0A9-08F4-4CA7-9F45-1E077D65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AB8-6A38-4985-B50E-35D76599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368-021E-4C04-9F91-BAFA9608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A27D3-FD5E-482E-9FD1-CC694ECB19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