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560328"/>
        <c:axId val="57171019"/>
      </c:barChart>
      <c:catAx>
        <c:axId val="765603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71019"/>
        <c:crosses val="autoZero"/>
        <c:auto val="1"/>
        <c:lblAlgn val="ctr"/>
        <c:lblOffset val="100"/>
        <c:noMultiLvlLbl val="0"/>
      </c:catAx>
      <c:valAx>
        <c:axId val="571710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603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80AD-098E-4CD7-8D9F-B13B3986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0EEB-A3C5-40CC-86DF-5B795C4B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9396-1D92-4014-8A24-D205C7C9E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8BEA-7825-4958-9898-50E83569C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B0A5-B859-45CD-8F9D-425850B9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4673-DE4E-4CAA-9A41-8E081A13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DE8D-A8AD-40B4-9B19-A34BCDF2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C372-99AC-498E-9455-7812A59A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5908-E4A0-4BDF-983D-7ABEAE01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CE5D-0E8E-43DA-A231-9E2195ED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B819-D4C3-4E05-AEDC-9E79400F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CDA4-B7D9-460D-A6BC-6D2AEA73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E492F-D77A-428E-92A0-13983DA4E7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