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34444"/>
        <c:axId val="81647254"/>
      </c:barChart>
      <c:catAx>
        <c:axId val="53234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47254"/>
        <c:crosses val="autoZero"/>
        <c:auto val="1"/>
        <c:lblAlgn val="ctr"/>
        <c:lblOffset val="100"/>
        <c:noMultiLvlLbl val="0"/>
      </c:catAx>
      <c:valAx>
        <c:axId val="81647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34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F9C-822E-4415-8321-0585887F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C31-402A-43B8-AF19-73470AA8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82C-46EF-4538-BDE5-1D4F0F8F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939-CC04-4564-8776-B061B82F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CEB-04DF-482D-8921-EABCCBA6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CF4-0A91-41A4-A7C7-1C90DEAD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926-9019-4098-8F6A-F846C667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ED0-2751-4C1F-8062-44BB0518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D22-4493-4FE8-9989-3CBB2A51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CA9-34C4-4610-9149-D0D7084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851-2EE7-4B3E-81FE-780CD3D6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60A-F34A-4FCA-B420-F351ED57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4BDFA-99FD-44E7-A69C-0CEFBD78F2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