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0108"/>
        <c:axId val="78533726"/>
      </c:barChart>
      <c:catAx>
        <c:axId val="14950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33726"/>
        <c:crosses val="autoZero"/>
        <c:auto val="1"/>
        <c:lblAlgn val="ctr"/>
        <c:lblOffset val="100"/>
        <c:noMultiLvlLbl val="0"/>
      </c:catAx>
      <c:valAx>
        <c:axId val="78533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0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E22-885C-4E08-A0CB-70BA3EC7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4CE-C61A-4B69-A64E-A3CA11E7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7B5-D054-481F-A06C-A23A4C1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3BB-2477-48E2-86DD-542584FC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0BE-BC8E-4332-BCC7-03FECF5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7A9-D305-4B05-9400-238D647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D26-2BDC-43CE-AF6E-8481DD3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420-234C-46BD-A4F7-CDBA749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EA8-A2A6-416E-9F85-52623FF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AAC-4F5A-4F21-BFD5-E1A49D6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FDD-2E22-40DF-8056-8CEB23A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46A-A729-4344-97F4-FDFB1E4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BD13-FB36-465D-8EE2-E43812219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